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C09-138A-4DDA-8DB1-DB26F2EC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FD2-CE26-43A7-B35E-BC2FE8AE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D760A-0167-44E9-8AA1-EE30AEF0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B1A39-88FE-4750-B768-021CBEF1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41322-0152-4653-91C8-7F350481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7A398-AA74-4B26-B218-286E843B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2DC65-42C3-424E-9AEE-201DF693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50EF7-7017-4411-9F5B-4B86F4D6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85FDE-EB66-4590-9965-9670B625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8C02D-D353-4B56-8E41-F374363A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699E9-DE69-4C76-8E12-3D0624D9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627AF-0378-4F33-B879-2078599A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3C6-2F9B-4A5D-BDAD-609E3312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1853D-5A3D-43E1-9CFE-AAC17A00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CAD71-00D5-41D9-977C-8A27924E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C3F75-E509-4D4A-98F5-E2606D0C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2D603-7702-4BF0-B463-665A5B16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39780-4DEB-4CE0-988F-32CC6997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DFC85-AAE3-4D85-B772-6EFF8ABE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A47DF-F4A6-4A09-8C5B-39391208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67A5D-942C-469D-8EAA-FD1243D6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3B102-D720-41D6-8C4E-FA643BA0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E73BC-3033-4421-B316-3CEDBC51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0A03-F6BE-4E31-870E-56D10D21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0F4D5-6B63-4728-80E6-9B0186EB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1F7A-274C-4280-8C52-05E869F2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9411-6544-4329-85DE-AABF82A8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8893-7AB8-4485-9DCA-6A2D7870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E4C4-8C1D-4C70-B40E-CFF6D0D0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C66D-E276-4B74-948B-D810AD27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FE6E-721B-46A7-BC54-BDE64939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6226-6F35-4D93-A90B-8EA8DAC9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8656-2E7A-46F3-884A-2977D732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BD4D-6082-40AE-B041-DB18F74F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12D8-A763-45D6-888D-75E9D2E6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B13B-83E8-4587-B46F-EAB556FF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3256-062A-4556-8DB9-45325231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6C99-BC11-4A54-979D-8278DE6D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2DFE5-CDE5-44D9-B5F7-E9BD06F2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E40C5-700E-4E55-A6C8-C249B0E0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F671-F9E4-4596-9F1A-AEECB17C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18030-F52A-4865-B7C3-A537A4E5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708D9-084E-464C-9AD6-6353DF8A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56D-8354-43B5-A09C-E2E9298F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C74A0-7821-411A-9B6F-5043F73C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A3024-F306-4F2E-B58B-AA131283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32D81-EB19-4D1F-969C-B321A34B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9A34B-A9FD-4393-82F0-E9EB8F29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8319-AD08-46DD-93CD-58DEF0CE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9C1FC-860A-46FC-A7C9-BF41262D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94B1E-CE94-43DD-B6EA-AE576316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BE576C-9DA8-46C7-A20E-15EF56D3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CAF968-6ADC-4D0E-B0AF-AFE60FF0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822817-7732-48C6-B834-420952AE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0FA-1D93-477B-85E3-02B7FBFB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982F2D-B467-4385-92A6-894FF42E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11422-F740-49BE-86B5-15CF0E3D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2D38D9-4331-4BA7-93B1-C46CDDAB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40E307-029A-4146-90D6-67011BBE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BF8955-0022-4150-89E2-8ED5542F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88E583-CCE4-4958-93D5-1DA6046E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D2BD4-324E-4A46-958B-7B2CF572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E1FDB6-6A87-4EE3-ABE6-59CE6FEC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1B59FE-02A6-4793-BE77-397DEA9C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EBC37-CC83-4AEA-9841-3DA338BC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8636-D8B7-4399-B154-4E6A4AC9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066F2-784A-4B1F-9025-1174997B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E6662-4F40-44EE-8FE7-417E73C4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89A3D-7AA6-4843-B19F-1FA66F3F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0D726-779E-4658-B266-A185C59B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E675D-DD8F-4122-A37E-5BF0E489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CABF0-D8A9-4B2F-B151-7CB77E13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86DAE-40AE-4616-A35D-E9E4D3C7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9ABDE-4FB4-47C1-B7F1-A9DC893D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E08DB-6BF3-4399-AE55-E4521C1D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B101A-91E7-435C-BF53-27487AE1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7DE-A22D-43C8-B5E8-7D2EEB2B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89637-91B3-4718-910E-8FE8AE42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1D1B1-C048-48D9-8509-47C544DA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6C338-B19C-4EC8-9DEE-2D131AE8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19D65-0E26-415B-AE0D-771B8635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F7BC1-A175-4296-A4B0-CC2BCD27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31FDA-39E7-4637-B822-F4B89E5E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C977E-0DDA-4A75-937F-89AC8E55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F5987-20CB-4075-8705-75076AA4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A31DD-3E18-49E9-9C39-B8CA0933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7DD62-5891-4325-B791-F3606922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F66-FA2D-4AEC-A00A-DC7CD5F4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599B4-2292-4B34-B185-6CBCC60C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CA59E-A462-44D5-8126-3C952762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E0EE7-560C-476C-94CA-199AC825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1123D-E00D-40EE-8575-DC29C5FC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2A451-33C0-4A31-A104-6C11ADEF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3B399-3D65-412A-B021-19B84542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BCA8C-9135-490F-9AF0-CC10345B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39868-F666-4AC9-9909-65D54F3F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A8E02-0737-4AAD-BE89-93FF5C3E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D17C9-CB01-4CE3-951C-49450695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97A-990E-4021-82BD-59930BF5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C32EC-EF2B-4196-92C5-5DC072A9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8C59C-C9A2-48B9-8148-A3DC84E3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AE41C-AA58-4F6A-87A2-1C8D2169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21930-12D8-4074-AC02-87B8B53B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390D7-7FC6-4940-A67A-5F9E4AAC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A53BE-9DDF-4A57-83EE-E36E5E34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C3C10-D4C8-4939-8E67-DA09B398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6B571-4A57-4E12-953A-3A7A92DB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B9F8B-6EBB-4625-9770-6DE0F29B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48B2B-A569-41C7-A1DE-F85B2227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8B0-5645-4677-A43B-A7D9FF86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517AB-1660-4B70-A98E-6DDDA7FD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29C63-527E-4705-A8A2-AD9B73F8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74787-F16D-4379-8D09-A7F6E773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3F84B-3382-4FF1-98A3-12080FD9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1FD07-E365-4910-A697-AF223BA6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5DC0C-E9F7-420B-B0DD-C4695617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7AA2F-A711-465C-ABB2-CAC964A3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063D7-1A79-4576-90A4-07AE3196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04357-ACC0-4423-BF71-31E62E97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FA200-75D6-4D9A-864C-70F79A78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DBD0-23EC-449E-A8EC-5EC47A2C2F5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4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4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4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6A4D-CC18-474E-8C03-DA3D701389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F083-8ABF-434F-B08D-F8B3CFCEEB9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5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5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6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4029-6383-49FC-B950-DE8511FC7A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1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1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A8F8-D909-4F2D-ABC3-6C64DBF39E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7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304A-B1A2-4DB2-9397-69035FD6E9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3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A562-7151-44FB-B7AC-6B014C106B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8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8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0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2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3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6F3C-F2BF-4EAE-B017-B01BB01DE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9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9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0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2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4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A513-0F32-4498-B77D-D05322212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2C94-26BB-47AB-BD15-EC9AF8A0D0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6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Arial"/>
              </a:rPr>
              <a:t>Тема урока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Горы суш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Различие гор по высот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9640" y="17935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ff99"/>
                </a:solidFill>
                <a:uFillTx/>
                <a:latin typeface="Verdana"/>
              </a:rPr>
              <a:t>Низкие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Высота до 1000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ff99"/>
                </a:solidFill>
                <a:uFillTx/>
                <a:latin typeface="Verdana"/>
              </a:rPr>
              <a:t>Средние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Высота от 1000м до 2000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ff99"/>
                </a:solidFill>
                <a:uFillTx/>
                <a:latin typeface="Verdana"/>
              </a:rPr>
              <a:t>Высокие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Высота более 2000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5867280" y="6021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изкие г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5688000" y="5877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редние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-1116000" y="-892080"/>
            <a:ext cx="11593440" cy="822960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5508720" y="58053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Высокие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504360" y="1655640"/>
            <a:ext cx="403236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9" name=""/>
          <p:cNvSpPr/>
          <p:nvPr/>
        </p:nvSpPr>
        <p:spPr>
          <a:xfrm>
            <a:off x="4643280" y="1557360"/>
            <a:ext cx="4038840" cy="19810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006666"/>
              </a:gs>
              <a:gs pos="100000">
                <a:srgbClr val="99ff33"/>
              </a:gs>
            </a:gsLst>
            <a:lin ang="13500000"/>
          </a:gradFill>
          <a:ln w="38160">
            <a:solidFill>
              <a:srgbClr val="eaeaea"/>
            </a:solidFill>
            <a:miter/>
          </a:ln>
          <a:effectLst>
            <a:outerShdw dist="153753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Внутрен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643280" y="4437000"/>
            <a:ext cx="4038840" cy="167652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6666"/>
              </a:gs>
            </a:gsLst>
            <a:lin ang="13500000"/>
          </a:gradFill>
          <a:ln w="38160">
            <a:solidFill>
              <a:srgbClr val="eaeaea"/>
            </a:solidFill>
            <a:miter/>
          </a:ln>
          <a:effectLst>
            <a:outerShdw dist="153753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Внеш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987640" y="2349360"/>
            <a:ext cx="1443240" cy="9352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987640" y="4005360"/>
            <a:ext cx="1451160" cy="9014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79280" y="2852640"/>
            <a:ext cx="287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Comic Sans MS"/>
              </a:rPr>
              <a:t>Прич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Comic Sans MS"/>
              </a:rPr>
              <a:t>Измен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Comic Sans MS"/>
              </a:rPr>
              <a:t>г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1042920" y="549360"/>
            <a:ext cx="67690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Внутренние си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39640" y="1484280"/>
            <a:ext cx="784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Под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Вулк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Землетряс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71640" y="2970360"/>
            <a:ext cx="6264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Внешние си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 rot="10800000">
            <a:off x="468000" y="3860280"/>
            <a:ext cx="706428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Ве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Ле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Текучие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Расти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Значение г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Горные луга – прекрасные пастбища для скот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Горы- кладовая запасов различных полезных ископаемых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Горнолыжные курорт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рактическая работа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писание ГП гор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л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звание, высот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Географическое положение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) на материке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б) направление и протяженность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) относительно других объект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457520" y="1628640"/>
            <a:ext cx="468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2560" y="259920"/>
            <a:ext cx="8080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Практическая работа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Описание ГП Уральских гор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380988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на материк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Направление и протяженнос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Относительно других объект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284720" y="1197000"/>
            <a:ext cx="48592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Уральские горы – низкие гор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Евраз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С севера на юг на 2000к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Граничат с Русской равниной, Западно – Сибирской низменностью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omic Sans MS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Познакомиться с процессами формирования рельеф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Сформировать понятие «горы», определить причины их разнообразия и изменения во време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Научиться определять географическое положение гор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99"/>
                </a:solidFill>
                <a:latin typeface="Comic Sans MS"/>
              </a:rPr>
              <a:t>Рельеф -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545840" y="4066920"/>
            <a:ext cx="60404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это совокупность неровностей земной поверхно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Формы рельефа Земл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456840" y="1599840"/>
            <a:ext cx="4033800" cy="45306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248000" cy="396072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1116000" y="2133720"/>
            <a:ext cx="2592360" cy="5745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99cc"/>
              </a:gs>
            </a:gsLst>
            <a:lin ang="8100000"/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Мате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219640" y="2205000"/>
            <a:ext cx="252108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66"/>
              </a:gs>
            </a:gsLst>
            <a:lin ang="8100000"/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Оке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71640" y="3573360"/>
            <a:ext cx="14396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99cc"/>
              </a:gs>
            </a:gsLst>
            <a:lin ang="81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916360" y="3573360"/>
            <a:ext cx="122400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99cc"/>
              </a:gs>
            </a:gsLst>
            <a:lin ang="81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Равн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32360" y="3860640"/>
            <a:ext cx="3816360" cy="36036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Срединные океанические хреб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932360" y="3141720"/>
            <a:ext cx="1800360" cy="35856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Котлов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932360" y="4508640"/>
            <a:ext cx="1871640" cy="36036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Жел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03640" y="5229360"/>
            <a:ext cx="1800360" cy="36036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Островные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д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1547640" y="2708280"/>
            <a:ext cx="432000" cy="86508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987640" y="2708280"/>
            <a:ext cx="647640" cy="86508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4642920" y="2421000"/>
            <a:ext cx="57636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2421000"/>
            <a:ext cx="0" cy="309564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3280" y="3357720"/>
            <a:ext cx="289080" cy="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643280" y="4076640"/>
            <a:ext cx="289080" cy="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643280" y="4724280"/>
            <a:ext cx="289080" cy="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643280" y="5516640"/>
            <a:ext cx="360360" cy="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6477120" y="365760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РЫ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684360" y="1816200"/>
            <a:ext cx="777240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3300"/>
                </a:solidFill>
                <a:uFillTx/>
                <a:latin typeface="Times New Roman"/>
              </a:rPr>
              <a:t>Горы</a:t>
            </a: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 -</a:t>
            </a: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обширные участки земной поверхности, приподнятые над равнинами и имеющие большие перепады высот                      (более 200м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1763640" y="333360"/>
            <a:ext cx="5256360" cy="358920"/>
          </a:xfrm>
          <a:prstGeom prst="bevel">
            <a:avLst>
              <a:gd name="adj" fmla="val 12500"/>
            </a:avLst>
          </a:prstGeom>
          <a:solidFill>
            <a:srgbClr val="aa8456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Найдите на рису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3"/>
          <a:stretch/>
        </p:blipFill>
        <p:spPr>
          <a:xfrm>
            <a:off x="1308240" y="499428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4"/>
          <a:stretch/>
        </p:blipFill>
        <p:spPr>
          <a:xfrm>
            <a:off x="6227640" y="36590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5"/>
          <a:stretch/>
        </p:blipFill>
        <p:spPr>
          <a:xfrm>
            <a:off x="1332000" y="3213000"/>
            <a:ext cx="5854680" cy="288000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 flipH="1">
            <a:off x="1692360" y="1700280"/>
            <a:ext cx="792000" cy="2162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940360" y="1413000"/>
            <a:ext cx="647640" cy="3095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779640" y="1557360"/>
            <a:ext cx="214200" cy="2087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148360" y="2276640"/>
            <a:ext cx="288720" cy="2230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176560" y="107784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п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589560" y="1052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вер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716360" y="1916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84720" y="191628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ущел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435640" y="98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435640" y="105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Склон 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1476360" y="404640"/>
            <a:ext cx="5759640" cy="720720"/>
          </a:xfrm>
          <a:prstGeom prst="bevel">
            <a:avLst>
              <a:gd name="adj" fmla="val 12500"/>
            </a:avLst>
          </a:prstGeom>
          <a:solidFill>
            <a:srgbClr val="aa8456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cc"/>
                </a:solidFill>
                <a:latin typeface="Arial"/>
              </a:rPr>
              <a:t>Горы по возрас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1" name=""/>
          <p:cNvCxnSpPr/>
          <p:nvPr/>
        </p:nvCxnSpPr>
        <p:spPr>
          <a:xfrm flipH="1">
            <a:off x="1402920" y="1413000"/>
            <a:ext cx="1656720" cy="15120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 flipH="1">
            <a:off x="4211280" y="1628640"/>
            <a:ext cx="144360" cy="27370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580000" y="1341360"/>
            <a:ext cx="1800360" cy="1727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nt"/>
          <p:cNvSpPr/>
          <p:nvPr/>
        </p:nvSpPr>
        <p:spPr>
          <a:xfrm>
            <a:off x="7873920" y="5516640"/>
            <a:ext cx="1270080" cy="1106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7896240" y="581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2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3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4"/>
          <a:stretch/>
        </p:blipFill>
        <p:spPr>
          <a:xfrm>
            <a:off x="1204920" y="39204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5"/>
          <a:stretch/>
        </p:blipFill>
        <p:spPr>
          <a:xfrm>
            <a:off x="6357960" y="29908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6"/>
          <a:stretch/>
        </p:blipFill>
        <p:spPr>
          <a:xfrm>
            <a:off x="1308240" y="499428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7"/>
          <a:stretch/>
        </p:blipFill>
        <p:spPr>
          <a:xfrm>
            <a:off x="8172360" y="481968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8"/>
          <a:stretch/>
        </p:blipFill>
        <p:spPr>
          <a:xfrm>
            <a:off x="6227640" y="36590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9"/>
          <a:stretch/>
        </p:blipFill>
        <p:spPr>
          <a:xfrm>
            <a:off x="566640" y="6227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10"/>
          <a:stretch/>
        </p:blipFill>
        <p:spPr>
          <a:xfrm>
            <a:off x="3309840" y="2265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11"/>
          <a:stretch/>
        </p:blipFill>
        <p:spPr>
          <a:xfrm>
            <a:off x="7562880" y="580716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12"/>
          <a:stretch/>
        </p:blipFill>
        <p:spPr>
          <a:xfrm>
            <a:off x="8462880" y="458784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13"/>
          <a:stretch/>
        </p:blipFill>
        <p:spPr>
          <a:xfrm>
            <a:off x="407880" y="4311720"/>
            <a:ext cx="114480" cy="11412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324000" y="3068640"/>
            <a:ext cx="2340000" cy="1079640"/>
          </a:xfrm>
          <a:prstGeom prst="bevel">
            <a:avLst>
              <a:gd name="adj" fmla="val 12500"/>
            </a:avLst>
          </a:prstGeom>
          <a:solidFill>
            <a:srgbClr val="339966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Ста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132000" y="4653000"/>
            <a:ext cx="2340000" cy="1079640"/>
          </a:xfrm>
          <a:prstGeom prst="bevel">
            <a:avLst>
              <a:gd name="adj" fmla="val 12500"/>
            </a:avLst>
          </a:prstGeom>
          <a:solidFill>
            <a:srgbClr val="339966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Сред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443640" y="3141720"/>
            <a:ext cx="2340000" cy="1079280"/>
          </a:xfrm>
          <a:prstGeom prst="bevel">
            <a:avLst>
              <a:gd name="adj" fmla="val 12500"/>
            </a:avLst>
          </a:prstGeom>
          <a:solidFill>
            <a:srgbClr val="339966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Моло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324000" y="-171360"/>
            <a:ext cx="3887640" cy="25351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3"/>
          <a:stretch/>
        </p:blipFill>
        <p:spPr>
          <a:xfrm>
            <a:off x="1476360" y="3213000"/>
            <a:ext cx="3959280" cy="187164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4"/>
          <a:stretch/>
        </p:blipFill>
        <p:spPr>
          <a:xfrm>
            <a:off x="4932360" y="5559480"/>
            <a:ext cx="3959280" cy="1298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18:20Z</dcterms:created>
  <dc:creator>555</dc:creator>
  <dc:description/>
  <dc:language>en-US</dc:language>
  <cp:lastModifiedBy>555</cp:lastModifiedBy>
  <dcterms:modified xsi:type="dcterms:W3CDTF">2007-12-16T11:22:45Z</dcterms:modified>
  <cp:revision>30</cp:revision>
  <dc:subject/>
  <dc:title>Рельеф - </dc:title>
</cp:coreProperties>
</file>